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7A8A-010A-4206-A60E-8DC4D61426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CEDE-DFBB-4E9F-A764-FFBFF1E96C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4A35-FDB1-4000-9B5B-DED8A9B36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315B-09E9-4200-8665-E5B8C136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79A6-519A-439A-B1F2-3E7217C35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B648-4C3D-4189-99F5-0AD5DBCB1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C84C-D53C-45FF-BB6C-5449A20C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8928-D733-4640-A456-6864EDC9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BD51-B5F9-41A3-80CC-3FE6E099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8700-4210-4746-844A-539D30BE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CB5E-5031-4BAC-9757-9FC38812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B216-F55B-43B3-A598-11AF0184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3936-3729-45C5-9706-036BD634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DCEE-4A97-4F5E-975A-D6BDD1F8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F408-B425-47A9-961D-8D10D9674D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7BAE-28AC-46D5-922C-3B091DCC5F4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285920" y="214200"/>
            <a:ext cx="60008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TW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51" name="TextBox 6"/>
          <p:cNvSpPr/>
          <p:nvPr/>
        </p:nvSpPr>
        <p:spPr>
          <a:xfrm>
            <a:off x="2428920" y="1428840"/>
            <a:ext cx="40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928800" y="2071800"/>
            <a:ext cx="735804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χω υἱ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ἀνθρωπος καλει δουλ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ν νομον φιλει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μην ἀμην λεγω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ιδασκει ὁ Χριστος τοω ὀχλ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θεος ποιει τον κοσμον και τον οὐραν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Exercises </a:t>
            </a:r>
            <a:fld id="{3413881F-7702-49FF-A0E5-1273935314D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1285920" y="214200"/>
            <a:ext cx="60008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TW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57" name="TextBox 5"/>
          <p:cNvSpPr/>
          <p:nvPr/>
        </p:nvSpPr>
        <p:spPr>
          <a:xfrm>
            <a:off x="1000080" y="1928880"/>
            <a:ext cx="785808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SzPct val="120000"/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Ἰωσηφ λαμβανει τους ἀδελφου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SzPct val="120000"/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ομεν και φιλουμεν τον λογ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rist says the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crowd listens to the l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s.) are setting free (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λυω)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sl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Some) People are making b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Exercises </a:t>
            </a:r>
            <a:fld id="{451DC695-054A-41F1-B6DD-0990DAC6E02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61" name="TextBox 3"/>
          <p:cNvSpPr/>
          <p:nvPr/>
        </p:nvSpPr>
        <p:spPr>
          <a:xfrm>
            <a:off x="1285920" y="214200"/>
            <a:ext cx="60008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TW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2428920" y="1428840"/>
            <a:ext cx="40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928800" y="2071800"/>
            <a:ext cx="735804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υἱοι λαλουσ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ἀγγελοι βλεπουσι τον θε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ὀχλος τον θεον ζητ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αλλετε τον ἀρτον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Ἰακωβ ἀγει τον ἀδελφ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ν νομον τηρει ὁ λαος Ἰσραηλ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Exercises </a:t>
            </a:r>
            <a:fld id="{DCD8213A-F4C7-4E02-BA44-BCBEBA7F99A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1285920" y="214200"/>
            <a:ext cx="60008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TW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68" name="TextBox 4"/>
          <p:cNvSpPr/>
          <p:nvPr/>
        </p:nvSpPr>
        <p:spPr>
          <a:xfrm>
            <a:off x="1000080" y="1928880"/>
            <a:ext cx="742968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SzPct val="120000"/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ν Δαυιδ ὁ κυριος ζητει 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SzPct val="120000"/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κυριος Χριστος τους ἀνθρωπους λυ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d has messen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teach the s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are seeking the l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pl.) are calling the br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Exercises </a:t>
            </a:r>
            <a:fld id="{0B3368C4-3FE1-4E97-BDE7-077C7CD98D0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10:38:08Z</dcterms:created>
  <dc:creator>Sarah</dc:creator>
  <dc:description/>
  <dc:language>en-US</dc:language>
  <cp:lastModifiedBy>Sarah</cp:lastModifiedBy>
  <dcterms:modified xsi:type="dcterms:W3CDTF">2008-08-24T12:34:34Z</dcterms:modified>
  <cp:revision>13</cp:revision>
  <dc:subject/>
  <dc:title>Slide 1</dc:title>
</cp:coreProperties>
</file>